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C41-8E44-47EC-BE8C-E344E230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3F45-1909-4440-B72F-3130CDDB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824-A145-417A-8EF9-9C278F384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0FC-F356-4209-A2A0-7215B089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4CBC-8BE1-44D3-B21E-1523E0D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AEF-C396-47A8-8CA4-03E25AE7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88F-01D2-4C4B-81E3-CDE99D63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BFE-0EFC-4BDF-9AE8-6F2445A7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087-32BF-4873-B01E-6210415E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8E5C-32A9-48E8-99C5-1EEE311F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F52A-4F31-4287-8E7B-EDBD4BA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482-DE24-46E2-A17E-F9E82DA2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1A9A-B818-46D3-A3B9-F1A917AD56C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heme and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6840" y="1600200"/>
            <a:ext cx="224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lexical fi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000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 group of words or phrases that are all associated with a particular subject or categ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0:58:01Z</dcterms:created>
  <dc:creator>Jane Klima</dc:creator>
  <dc:description/>
  <dc:language>en-US</dc:language>
  <cp:lastModifiedBy>Archer, Katy</cp:lastModifiedBy>
  <dcterms:modified xsi:type="dcterms:W3CDTF">2014-12-18T11:11:58Z</dcterms:modified>
  <cp:revision>49</cp:revision>
  <dc:subject/>
  <dc:title>La Belle Dame Sans Merci</dc:title>
</cp:coreProperties>
</file>